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A0B-1BDE-41F2-A380-D6297F50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2EF-2E00-43EF-9257-0ED4891D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B69EF-6B69-411E-8318-03E4856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054B9-A49D-4EC7-9998-15F11F9C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6719-3001-4B62-A868-70B5EDD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4C2F1-CC42-4118-9367-FBCAC815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BB99B-21A2-4A76-9FA5-82FD039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3825-528D-488E-B2EC-62D6F92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CEC72-816A-41CE-B6A4-02CB8954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4DDCC-AF00-4625-8FE3-00E508E1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82781-691E-46FB-B070-23765D4D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6428-330C-48F4-BD5D-7A69C1BD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4C5-D723-4F0B-A095-08ADD236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EB7EB-AF0E-4F60-A7DA-DA3DED7E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2A6FB-9468-4497-B18C-33B96D8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E7C74-B620-4C1A-A5FE-52DA699A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4F4CF-7486-428E-9AE8-3933AD4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1A41A-B384-4E65-9234-35AD1DC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58512-D892-4015-8552-61DA7DE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6822B-EC1D-4F58-9B0D-4074F04B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CAFCE-342A-495B-B16D-E3F21C8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A494-9D6C-4D14-8D6D-5153448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CFDF-FFFF-4C3B-A3A3-78AC1A5A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20B-E4CB-40D2-B32A-23209FBF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19BA6-B969-4E4B-B267-A87A845E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EDE4-BA8A-4837-BD1A-78BB7272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59525-3081-40FE-A315-563DC50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6FA9F-D0D8-4C07-A3CF-6D58D53F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5C694-C66B-4C85-8217-03276257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6E859-134F-424F-9EC7-52ED3B3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01246-F462-4BB6-B97E-63942C4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8D80-3F9B-4F0D-8625-BA5393E1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933CF-90C7-431D-9FAA-B3D8652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0E999-14EC-424D-8B4B-262D4FD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6BB9-63E7-42A2-956E-DF75921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54B29-BAEB-4402-9EA3-D9900216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A852B-5B32-44DA-BB77-F1F5C901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FCE7-2C2A-40D5-8FEB-785D14B8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1F339-037C-4312-B44E-5883F1C5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C2C8E-86E9-4A0E-B9E6-B0C468A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39075-F18F-4AD5-9B23-32DE8BAB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E90E3-72EE-4E3A-86AC-EA366CA6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C7A64-A0CB-42EF-8D75-745809E7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A70FB-B7F1-4E9E-9BEC-6DA4F21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E046B-737B-4E56-8785-41233A0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C046-2519-40D3-96BC-62C4909F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005B6-6B65-4C73-9269-103B0BC6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428E4-DFF9-4797-B045-D63A9AC0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2B32B-C89E-4E40-978F-04C695FE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34A19-90E8-40D2-8BDE-43D1CBFD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D7DAA-8C79-4A2B-9EEE-0F9D1791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9A51-A946-4273-8BA6-901788D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E0C-EABD-497E-9FFB-77F81B70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5D9D-BD24-4507-9CB0-6444A24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345-CB1D-46CD-A5F6-45333187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4B82-97D4-4EBA-AE4B-3A86684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F59-384F-4698-813D-B7ED9784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DAD6-21BD-498D-9941-52CE444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1F5-98E3-4DC2-8D12-42E4B2F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604F-31C4-4633-B42A-A4A27F30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68C5-B122-4A65-8A60-8F8D88BD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80F0-AD11-44B1-92F4-341D2A73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CFFD-5030-4516-A6CD-BE9C55F1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7A90-2DE0-4DEB-A137-39E7A65B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9D99-C65D-4150-AD5C-AFB775D6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4D1F-5D53-4465-B2CE-9D78931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7A37-7961-438D-8F6A-FAAAD20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68D-538E-4C8C-811A-B25F7BBC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DF37-9979-472F-98E7-61D0F15A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0299-B49D-4B58-84D9-D6457C1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FE9F-EF33-4850-8D1F-2436F16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D4EC-CA5E-4797-AF25-DC8DEF4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8EEE-6CBE-4041-806F-2DB451E6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2A2E-BE78-4283-B9BD-BD628856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884F-BDB0-4CBD-9AAD-929079BA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5D91-3771-4FAA-8008-9EE121AC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445F-4E2A-4DE3-B8C9-D0821070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306B-DB32-49FF-B358-055327D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C50-50B9-4118-8341-697B5961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C2A1-DF67-4959-BBCE-634AEF7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347D-05E0-40A5-8BE7-8EB6DC7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9461-232D-439D-94EB-1BAEA1FE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9A85-84F0-47C6-83FE-640352E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C3FEF-1283-4AA1-924E-EB0BBD5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ACE7-AE82-421D-B1B6-EE43424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96438-8EA8-4EB0-A37E-D475EFF7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0FB9-D21A-4277-9CD5-0DC99D82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619D-D3F5-4DB5-8A67-6E3904B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4C24D-8262-442C-9FA6-EFEE6321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4ED-0A75-44E9-8EFE-7A078B64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620A-E61B-4FF5-892E-021FC59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C00C-F9C8-4F15-88DC-92D96DB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99E6-60C2-407F-8E37-DA77106A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965C-0BA0-438F-8BCB-AB2823B7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7987A-20BB-4B80-8511-DB63552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D2DBC-468B-45D9-967B-CE9A8C4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8C60-9326-4EA6-81F1-68A77EB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5A00-9CC5-4930-A4B8-A41F6F18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F26D3-0115-4C67-B02F-A467CDA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33AE-3347-47FB-8C3C-628EFE74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6D7-E4B9-450D-88D0-5574F4C2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29E7-13B6-42F7-AC7C-FBCA10EA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D22A-D857-47FD-8908-087916DD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BA90-87D4-44B3-A392-27309A1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42641-B28D-413F-B787-782106AE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F0CA-3976-4E9E-BE38-FD664858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8F94-42F4-4015-8EB4-6BDFFF7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E61E-CDC3-4D0D-A4F1-B582766A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9C82-9546-47CB-8D52-2DD445C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057E-C1EE-4EAC-A03B-A443097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FE46-8CBE-41E7-B6AA-BEAF55E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D9A-ABB2-486D-A0D0-85B3FA8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C3DD-9490-48C1-AA7A-D05CAA3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E7AB-A94E-4F15-AD82-3ADAE9A3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A336-C499-4083-A8EA-BE6FB243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2995-747D-4467-A620-0F98E6F6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2BF0-4B17-485A-9D24-8917AF42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E816-C0B0-44B3-B1ED-636906D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53E96-54BB-4B0B-B462-1A4A922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D7E3-2E20-4D01-843E-A5691F51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70EF-C935-44CA-8992-BB71469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AB818-47E2-4741-A62D-8566BD4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762-9FDD-4520-B251-53B234E2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44DD0-29E4-4651-80EC-4391C63A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B1850-7F19-4EC9-B7B3-A98436D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D13C-22DB-44FA-BFB5-12A763E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E207-E6D6-4395-8932-B6F012BD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AB9C4-1941-4891-84D1-354556A6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473D-F890-41B3-8F24-C6109CAA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151DF-5A59-4942-84EB-705FCF2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D8798-BF78-433E-B885-D2AFD76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C6DB-38A0-4B65-8108-D24AB3F3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D3B8E-A6D4-4192-88A7-9F525D3E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C54-CCB3-4106-BCB0-F58C166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974F-5617-4F59-8494-C56E5A67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344EC-1762-4F50-949C-E92B274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7862-6A69-4CB8-885F-0765072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238E-9242-4551-82C9-87471E1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9F013-CE20-4D5A-93BA-7071CA19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4310-1CEA-4DFC-A377-E9254495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32F5-93D1-4B3A-B036-882FFC7B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43123-5809-4C83-83B3-13799F0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BB165-723C-4EFF-9BB4-5690E2F8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A0D8-B99A-4254-B8C3-C890E32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5CAC-C388-4CB8-83D0-7205774E17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AD04-F12D-4888-86C6-26029CFF3F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82D-072A-4321-BEF1-6E5B86DC0F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83D-4354-4B4B-BCB5-2A88455747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F95C-BBB1-4B02-85C6-E83AA2530F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FAD-FB50-4F62-B115-57D14F5BAA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1CBE-C280-467F-B6EA-E92F5B82EF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C39D-6EB8-4864-BCAB-A183C3E8A7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42E4-8B38-4751-A0DA-C50CEC89C8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B5FA-9D8F-4421-B574-48AF5E8B7F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BB46-366C-48F3-833C-81878E8C09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097-1A8D-4B0F-9953-39A306EB47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50 Už dňa chví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dňa chvíle zlé aj mil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šli do minul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čas každý raz sa na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tí v mori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hradom buď ty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a denne, stále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lásku veleb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 nás pýchy, odpusť hriech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na česť tvoju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hradom buď ty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nás, Pane, dni nám da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žiť v tvojej blízk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nám k dielu chuť a si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ás cestou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hradom buď ty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19:42Z</dcterms:modified>
  <cp:revision>55</cp:revision>
  <dc:subject/>
  <dc:title>Je veľký náš Pán, on slávy je Kráľ Nech do všetkých strán  spev vrúcnych znie chvál.</dc:title>
</cp:coreProperties>
</file>